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20.png" ContentType="image/png"/>
  <Override PartName="/ppt/media/image17.gif" ContentType="image/gif"/>
  <Override PartName="/ppt/media/image2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wmf" ContentType="image/x-wmf"/>
  <Override PartName="/ppt/media/image16.gif" ContentType="image/gif"/>
  <Override PartName="/ppt/media/image1.wmf" ContentType="image/x-wmf"/>
  <Override PartName="/ppt/media/image15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9FE-D9C9-424C-BFBC-E5AEA289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660-66B4-40D4-90A3-DCD966FC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8CA-67D6-453C-92B6-EB56075A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440-9855-4D40-A87E-25CAD64E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AF0-BF48-4DD9-B130-1682B66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E68-3230-4C4B-82A2-D0E1AA6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773-6E49-4964-8994-DA6A00BA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C66-6026-4823-B949-04722DA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975-B887-49C7-9902-FABB0539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F3D-CD92-4BAC-AE7F-2EE600D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24E-5F0B-4E49-B88B-94ABF74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E93-A030-4AF6-90AC-3A198D98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7EB-63CC-4EFA-BC2D-496F1B2C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file:///tmp/home/.config/libreoffice/4/user/gallery/sn00014a.wav" TargetMode="External"/><Relationship Id="rId3" Type="http://schemas.microsoft.com/office/2007/relationships/media" Target="file:///tmp/home/.config/libreoffice/4/user/gallery/sn00014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19.gif"/><Relationship Id="rId18" Type="http://schemas.openxmlformats.org/officeDocument/2006/relationships/image" Target="../media/image19.gif"/><Relationship Id="rId19" Type="http://schemas.openxmlformats.org/officeDocument/2006/relationships/image" Target="../media/image19.gif"/><Relationship Id="rId20" Type="http://schemas.openxmlformats.org/officeDocument/2006/relationships/image" Target="../media/image19.gif"/><Relationship Id="rId21" Type="http://schemas.openxmlformats.org/officeDocument/2006/relationships/image" Target="../media/image19.gif"/><Relationship Id="rId22" Type="http://schemas.openxmlformats.org/officeDocument/2006/relationships/image" Target="../media/image19.gi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1.wmf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20.png"/><Relationship Id="rId4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SN00278A.wav" TargetMode="External"/><Relationship Id="rId3" Type="http://schemas.microsoft.com/office/2007/relationships/media" Target="file:///tmp/home/.config/libreoffice/4/user/gallery/SN00278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0080" y="2590920"/>
            <a:ext cx="601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utterfly In My Garden"/>
              </a:rPr>
              <a:t>BuTtErFlI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3220200">
            <a:off x="269280" y="4149360"/>
            <a:ext cx="2749680" cy="207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02200" y="3389400"/>
            <a:ext cx="3241800" cy="346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048440" y="492120"/>
            <a:ext cx="1724040" cy="183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380880"/>
            <a:ext cx="202572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00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52)"/>
                                      </p:to>
                                    </p:set>
                                    <p:set>
                                      <p:cBhvr>
                                        <p:cTn id="19" dur="100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52)"/>
                                      </p:to>
                                    </p:set>
                                    <p:set>
                                      <p:cBhvr>
                                        <p:cTn id="20" dur="1000" autoRev="1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6296040" cy="654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13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3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05320" y="1981080"/>
            <a:ext cx="1734840" cy="3214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 repeatCount="100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1608120"/>
            <a:ext cx="3657600" cy="3643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00200" y="609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160020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438280" y="56386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724280" y="5562720"/>
            <a:ext cx="1143000" cy="77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934320" y="4876920"/>
            <a:ext cx="114300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467480" y="33526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791320" y="2133720"/>
            <a:ext cx="1143000" cy="77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1752480" y="228600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28600" y="5181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5638680" y="609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7543800" y="1752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4"/>
          <a:stretch/>
        </p:blipFill>
        <p:spPr>
          <a:xfrm>
            <a:off x="3505320" y="609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380880" y="3276720"/>
            <a:ext cx="1143000" cy="777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6"/>
          <a:stretch/>
        </p:blipFill>
        <p:spPr>
          <a:xfrm>
            <a:off x="1676520" y="434340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7"/>
          <a:stretch/>
        </p:blipFill>
        <p:spPr>
          <a:xfrm>
            <a:off x="7620120" y="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2819520" y="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7772400" y="608004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3809880" y="502920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1523880" y="320040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1066680" y="58672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1905120" y="1523880"/>
            <a:ext cx="844560" cy="63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6400800" y="13716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8153280" y="9907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4267080" y="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6400800" y="62215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228600" y="60199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2666880" y="36576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2590920" y="7621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762120" y="838080"/>
            <a:ext cx="844560" cy="636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447920" y="51055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228600" y="41148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7315200" y="25909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6858000" y="4572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4724280" y="11430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8299440" y="4495680"/>
            <a:ext cx="844560" cy="636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3733920" y="62215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0" y="25146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2971800" y="480060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5943600" y="5181480"/>
            <a:ext cx="844560" cy="636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6095880" y="3733920"/>
            <a:ext cx="844560" cy="636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62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635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ere have all the butterflies gon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5583240"/>
            <a:ext cx="1219320" cy="1046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30280" y="177840"/>
            <a:ext cx="6283440" cy="650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99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187280"/>
            <a:ext cx="4876920" cy="434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54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2190600"/>
            <a:ext cx="3657600" cy="247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33640" y="990720"/>
            <a:ext cx="3225960" cy="4800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3701880" cy="56386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1627200"/>
            <a:ext cx="5486400" cy="3602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566720"/>
            <a:ext cx="5486400" cy="3722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38520" y="685800"/>
            <a:ext cx="3666960" cy="54864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1:07:50Z</dcterms:created>
  <dc:creator>Cheryl Ann Briggs</dc:creator>
  <dc:description/>
  <dc:language>en-US</dc:language>
  <cp:lastModifiedBy>Cheryl Ann Briggs</cp:lastModifiedBy>
  <dcterms:modified xsi:type="dcterms:W3CDTF">2004-04-30T03:01:11Z</dcterms:modified>
  <cp:revision>24</cp:revision>
  <dc:subject/>
  <dc:title>Slide 1</dc:title>
</cp:coreProperties>
</file>